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ECF0-0473-4FAF-976D-2A872211C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A802-1169-4CCF-93F2-4CFA1F5D3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3D5B-2178-4EEC-8296-B3040FBAD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4C7C-2FC0-4DB2-BAAA-27FE8BB74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63869-E524-4F55-B4C8-BA50A361B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B32C8-0B3A-4084-94B8-70CF284F9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1249C-600C-4AFC-940E-9C7A6A43A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CE4C2-B3B4-4437-852A-5E8C0236C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2CE4A-7BBC-4800-84D0-E674DA785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0CE56-5957-4550-B1CF-56A26EB6E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A3A74-EA19-48AD-AB68-99882357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0EE8-3412-413B-A928-E835758D7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80C00-2CB8-4DD5-816F-97A10D1D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0EFF8-2137-4C3A-A57D-70A98866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6B418-E81B-40B8-AA98-0F93805D6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FA417-2049-4B55-9C00-803828EA6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33412-DEB3-4592-90E9-952492710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E1BB-0E5A-40DE-9266-0DF1DB9E8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2D17-0483-4051-AB0D-8F50AC5D6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C8A3-9ACC-405A-AA5C-3BB52976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3372-5323-4C60-BBB2-D72849AA5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EBC7-9A5E-43BA-AC8C-27561B4D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EE88-75E5-4C18-8FA5-8F49A6FB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8A29-7077-4FC4-95CD-33E708BB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9E3DA-293A-423C-B8AD-0F5CFEC1D4B0}" type="slidenum">
              <a: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0F164-A744-4034-8019-0C48AE46210B}" type="slidenum">
              <a: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" Target="slide4.xml"/><Relationship Id="rId3" Type="http://schemas.openxmlformats.org/officeDocument/2006/relationships/image" Target="../media/image4.wmf"/><Relationship Id="rId4" Type="http://schemas.openxmlformats.org/officeDocument/2006/relationships/slide" Target="slide5.xml"/><Relationship Id="rId5" Type="http://schemas.openxmlformats.org/officeDocument/2006/relationships/image" Target="../media/image4.wmf"/><Relationship Id="rId6" Type="http://schemas.openxmlformats.org/officeDocument/2006/relationships/slide" Target="slide6.xml"/><Relationship Id="rId7" Type="http://schemas.openxmlformats.org/officeDocument/2006/relationships/image" Target="../media/image4.wmf"/><Relationship Id="rId8" Type="http://schemas.openxmlformats.org/officeDocument/2006/relationships/slide" Target="slide7.xml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Your title her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Your nam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6" name="">
            <a:hlinkClick r:id="" action="ppaction://hlinkshowjump?jump=nextslide"/>
          </p:cNvPr>
          <p:cNvSpPr/>
          <p:nvPr/>
        </p:nvSpPr>
        <p:spPr>
          <a:xfrm>
            <a:off x="1066680" y="4419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Go!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able Of Content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pic>
        <p:nvPicPr>
          <p:cNvPr id="88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533520" y="205740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828800" y="198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49360" y="220968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49720" y="274320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ask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50440" y="327672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452240" y="3886200"/>
            <a:ext cx="16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Evaluation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52960" y="4495680"/>
            <a:ext cx="168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9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2514600"/>
            <a:ext cx="838080" cy="762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33520" y="3048120"/>
            <a:ext cx="838080" cy="7617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33520" y="3657600"/>
            <a:ext cx="838080" cy="762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33520" y="4267080"/>
            <a:ext cx="83808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1" name="">
            <a:hlinkClick r:id="" action="ppaction://hlinkshowjump?jump=nextslide"/>
          </p:cNvPr>
          <p:cNvSpPr/>
          <p:nvPr/>
        </p:nvSpPr>
        <p:spPr>
          <a:xfrm>
            <a:off x="7696080" y="685800"/>
            <a:ext cx="838440" cy="838080"/>
          </a:xfrm>
          <a:custGeom>
            <a:avLst/>
            <a:gdLst>
              <a:gd name="textAreaLeft" fmla="*/ 54000 w 838440"/>
              <a:gd name="textAreaRight" fmla="*/ 784440 w 838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9" h="21600">
                <a:moveTo>
                  <a:pt x="0" y="0"/>
                </a:moveTo>
                <a:lnTo>
                  <a:pt x="21609" y="0"/>
                </a:lnTo>
                <a:lnTo>
                  <a:pt x="21609" y="21600"/>
                </a:lnTo>
                <a:lnTo>
                  <a:pt x="0" y="21600"/>
                </a:lnTo>
                <a:close/>
              </a:path>
              <a:path fill="lightenLess" w="21609" h="21600">
                <a:moveTo>
                  <a:pt x="0" y="0"/>
                </a:moveTo>
                <a:lnTo>
                  <a:pt x="21609" y="0"/>
                </a:lnTo>
                <a:lnTo>
                  <a:pt x="20209" y="1400"/>
                </a:lnTo>
                <a:lnTo>
                  <a:pt x="1400" y="1400"/>
                </a:lnTo>
                <a:close/>
              </a:path>
              <a:path fill="darken" w="21609" h="21600">
                <a:moveTo>
                  <a:pt x="21609" y="0"/>
                </a:moveTo>
                <a:lnTo>
                  <a:pt x="21609" y="21600"/>
                </a:lnTo>
                <a:lnTo>
                  <a:pt x="20209" y="20200"/>
                </a:lnTo>
                <a:lnTo>
                  <a:pt x="20209" y="1400"/>
                </a:lnTo>
                <a:close/>
              </a:path>
              <a:path fill="darkenLess" w="21609" h="21600">
                <a:moveTo>
                  <a:pt x="21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9" y="20200"/>
                </a:lnTo>
                <a:close/>
              </a:path>
              <a:path fill="lighten" w="21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9" h="21600">
                <a:moveTo>
                  <a:pt x="3798" y="3794"/>
                </a:moveTo>
                <a:lnTo>
                  <a:pt x="17811" y="10800"/>
                </a:lnTo>
                <a:lnTo>
                  <a:pt x="3798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2" name="">
            <a:hlinkClick r:id="rId1" action="ppaction://hlinksldjump"/>
          </p:cNvPr>
          <p:cNvSpPr/>
          <p:nvPr/>
        </p:nvSpPr>
        <p:spPr>
          <a:xfrm>
            <a:off x="228600" y="571500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10800" y="4913"/>
                </a:moveTo>
                <a:lnTo>
                  <a:pt x="13376" y="7524"/>
                </a:lnTo>
                <a:lnTo>
                  <a:pt x="13376" y="5783"/>
                </a:lnTo>
                <a:lnTo>
                  <a:pt x="15152" y="5783"/>
                </a:lnTo>
                <a:lnTo>
                  <a:pt x="15152" y="9300"/>
                </a:lnTo>
                <a:lnTo>
                  <a:pt x="17763" y="11876"/>
                </a:lnTo>
                <a:lnTo>
                  <a:pt x="16109" y="11876"/>
                </a:lnTo>
                <a:lnTo>
                  <a:pt x="16109" y="19065"/>
                </a:lnTo>
                <a:lnTo>
                  <a:pt x="5491" y="19065"/>
                </a:lnTo>
                <a:lnTo>
                  <a:pt x="5491" y="11876"/>
                </a:lnTo>
                <a:lnTo>
                  <a:pt x="3837" y="11876"/>
                </a:lnTo>
                <a:close/>
              </a:path>
              <a:path fill="darkenLess" w="21600" h="23752">
                <a:moveTo>
                  <a:pt x="13376" y="7524"/>
                </a:moveTo>
                <a:lnTo>
                  <a:pt x="13376" y="5783"/>
                </a:lnTo>
                <a:lnTo>
                  <a:pt x="15152" y="5783"/>
                </a:lnTo>
                <a:lnTo>
                  <a:pt x="15152" y="9300"/>
                </a:lnTo>
                <a:close/>
              </a:path>
              <a:path fill="darkenLess" w="21600" h="23752">
                <a:moveTo>
                  <a:pt x="9877" y="15375"/>
                </a:moveTo>
                <a:lnTo>
                  <a:pt x="11723" y="15375"/>
                </a:lnTo>
                <a:lnTo>
                  <a:pt x="11723" y="19065"/>
                </a:lnTo>
                <a:lnTo>
                  <a:pt x="16109" y="19065"/>
                </a:lnTo>
                <a:lnTo>
                  <a:pt x="16109" y="11876"/>
                </a:lnTo>
                <a:lnTo>
                  <a:pt x="5491" y="11876"/>
                </a:lnTo>
                <a:lnTo>
                  <a:pt x="5491" y="19065"/>
                </a:lnTo>
                <a:lnTo>
                  <a:pt x="9877" y="19065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14400" y="457200"/>
            <a:ext cx="990720" cy="12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ask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6" name="">
            <a:hlinkClick r:id="rId1" action="ppaction://hlinksldjump"/>
          </p:cNvPr>
          <p:cNvSpPr/>
          <p:nvPr/>
        </p:nvSpPr>
        <p:spPr>
          <a:xfrm>
            <a:off x="228600" y="571500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10800" y="4913"/>
                </a:moveTo>
                <a:lnTo>
                  <a:pt x="13376" y="7524"/>
                </a:lnTo>
                <a:lnTo>
                  <a:pt x="13376" y="5783"/>
                </a:lnTo>
                <a:lnTo>
                  <a:pt x="15152" y="5783"/>
                </a:lnTo>
                <a:lnTo>
                  <a:pt x="15152" y="9300"/>
                </a:lnTo>
                <a:lnTo>
                  <a:pt x="17763" y="11876"/>
                </a:lnTo>
                <a:lnTo>
                  <a:pt x="16109" y="11876"/>
                </a:lnTo>
                <a:lnTo>
                  <a:pt x="16109" y="19065"/>
                </a:lnTo>
                <a:lnTo>
                  <a:pt x="5491" y="19065"/>
                </a:lnTo>
                <a:lnTo>
                  <a:pt x="5491" y="11876"/>
                </a:lnTo>
                <a:lnTo>
                  <a:pt x="3837" y="11876"/>
                </a:lnTo>
                <a:close/>
              </a:path>
              <a:path fill="darkenLess" w="21600" h="23752">
                <a:moveTo>
                  <a:pt x="13376" y="7524"/>
                </a:moveTo>
                <a:lnTo>
                  <a:pt x="13376" y="5783"/>
                </a:lnTo>
                <a:lnTo>
                  <a:pt x="15152" y="5783"/>
                </a:lnTo>
                <a:lnTo>
                  <a:pt x="15152" y="9300"/>
                </a:lnTo>
                <a:close/>
              </a:path>
              <a:path fill="darkenLess" w="21600" h="23752">
                <a:moveTo>
                  <a:pt x="9877" y="15375"/>
                </a:moveTo>
                <a:lnTo>
                  <a:pt x="11723" y="15375"/>
                </a:lnTo>
                <a:lnTo>
                  <a:pt x="11723" y="19065"/>
                </a:lnTo>
                <a:lnTo>
                  <a:pt x="16109" y="19065"/>
                </a:lnTo>
                <a:lnTo>
                  <a:pt x="16109" y="11876"/>
                </a:lnTo>
                <a:lnTo>
                  <a:pt x="5491" y="11876"/>
                </a:lnTo>
                <a:lnTo>
                  <a:pt x="5491" y="19065"/>
                </a:lnTo>
                <a:lnTo>
                  <a:pt x="9877" y="19065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nextslide"/>
          </p:cNvPr>
          <p:cNvSpPr/>
          <p:nvPr/>
        </p:nvSpPr>
        <p:spPr>
          <a:xfrm>
            <a:off x="7696080" y="685800"/>
            <a:ext cx="838440" cy="838080"/>
          </a:xfrm>
          <a:custGeom>
            <a:avLst/>
            <a:gdLst>
              <a:gd name="textAreaLeft" fmla="*/ 54000 w 838440"/>
              <a:gd name="textAreaRight" fmla="*/ 784440 w 838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9" h="21600">
                <a:moveTo>
                  <a:pt x="0" y="0"/>
                </a:moveTo>
                <a:lnTo>
                  <a:pt x="21609" y="0"/>
                </a:lnTo>
                <a:lnTo>
                  <a:pt x="21609" y="21600"/>
                </a:lnTo>
                <a:lnTo>
                  <a:pt x="0" y="21600"/>
                </a:lnTo>
                <a:close/>
              </a:path>
              <a:path fill="lightenLess" w="21609" h="21600">
                <a:moveTo>
                  <a:pt x="0" y="0"/>
                </a:moveTo>
                <a:lnTo>
                  <a:pt x="21609" y="0"/>
                </a:lnTo>
                <a:lnTo>
                  <a:pt x="20209" y="1400"/>
                </a:lnTo>
                <a:lnTo>
                  <a:pt x="1400" y="1400"/>
                </a:lnTo>
                <a:close/>
              </a:path>
              <a:path fill="darken" w="21609" h="21600">
                <a:moveTo>
                  <a:pt x="21609" y="0"/>
                </a:moveTo>
                <a:lnTo>
                  <a:pt x="21609" y="21600"/>
                </a:lnTo>
                <a:lnTo>
                  <a:pt x="20209" y="20200"/>
                </a:lnTo>
                <a:lnTo>
                  <a:pt x="20209" y="1400"/>
                </a:lnTo>
                <a:close/>
              </a:path>
              <a:path fill="darkenLess" w="21609" h="21600">
                <a:moveTo>
                  <a:pt x="21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9" y="20200"/>
                </a:lnTo>
                <a:close/>
              </a:path>
              <a:path fill="lighten" w="21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9" h="21600">
                <a:moveTo>
                  <a:pt x="3798" y="3794"/>
                </a:moveTo>
                <a:lnTo>
                  <a:pt x="17811" y="10800"/>
                </a:lnTo>
                <a:lnTo>
                  <a:pt x="3798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Proces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0" name="">
            <a:hlinkClick r:id="rId1" action="ppaction://hlinksldjump"/>
          </p:cNvPr>
          <p:cNvSpPr/>
          <p:nvPr/>
        </p:nvSpPr>
        <p:spPr>
          <a:xfrm>
            <a:off x="228600" y="571500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10800" y="4913"/>
                </a:moveTo>
                <a:lnTo>
                  <a:pt x="13376" y="7524"/>
                </a:lnTo>
                <a:lnTo>
                  <a:pt x="13376" y="5783"/>
                </a:lnTo>
                <a:lnTo>
                  <a:pt x="15152" y="5783"/>
                </a:lnTo>
                <a:lnTo>
                  <a:pt x="15152" y="9300"/>
                </a:lnTo>
                <a:lnTo>
                  <a:pt x="17763" y="11876"/>
                </a:lnTo>
                <a:lnTo>
                  <a:pt x="16109" y="11876"/>
                </a:lnTo>
                <a:lnTo>
                  <a:pt x="16109" y="19065"/>
                </a:lnTo>
                <a:lnTo>
                  <a:pt x="5491" y="19065"/>
                </a:lnTo>
                <a:lnTo>
                  <a:pt x="5491" y="11876"/>
                </a:lnTo>
                <a:lnTo>
                  <a:pt x="3837" y="11876"/>
                </a:lnTo>
                <a:close/>
              </a:path>
              <a:path fill="darkenLess" w="21600" h="23752">
                <a:moveTo>
                  <a:pt x="13376" y="7524"/>
                </a:moveTo>
                <a:lnTo>
                  <a:pt x="13376" y="5783"/>
                </a:lnTo>
                <a:lnTo>
                  <a:pt x="15152" y="5783"/>
                </a:lnTo>
                <a:lnTo>
                  <a:pt x="15152" y="9300"/>
                </a:lnTo>
                <a:close/>
              </a:path>
              <a:path fill="darkenLess" w="21600" h="23752">
                <a:moveTo>
                  <a:pt x="9877" y="15375"/>
                </a:moveTo>
                <a:lnTo>
                  <a:pt x="11723" y="15375"/>
                </a:lnTo>
                <a:lnTo>
                  <a:pt x="11723" y="19065"/>
                </a:lnTo>
                <a:lnTo>
                  <a:pt x="16109" y="19065"/>
                </a:lnTo>
                <a:lnTo>
                  <a:pt x="16109" y="11876"/>
                </a:lnTo>
                <a:lnTo>
                  <a:pt x="5491" y="11876"/>
                </a:lnTo>
                <a:lnTo>
                  <a:pt x="5491" y="19065"/>
                </a:lnTo>
                <a:lnTo>
                  <a:pt x="9877" y="19065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7696080" y="685800"/>
            <a:ext cx="838440" cy="838080"/>
          </a:xfrm>
          <a:custGeom>
            <a:avLst/>
            <a:gdLst>
              <a:gd name="textAreaLeft" fmla="*/ 54000 w 838440"/>
              <a:gd name="textAreaRight" fmla="*/ 784440 w 838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9" h="21600">
                <a:moveTo>
                  <a:pt x="0" y="0"/>
                </a:moveTo>
                <a:lnTo>
                  <a:pt x="21609" y="0"/>
                </a:lnTo>
                <a:lnTo>
                  <a:pt x="21609" y="21600"/>
                </a:lnTo>
                <a:lnTo>
                  <a:pt x="0" y="21600"/>
                </a:lnTo>
                <a:close/>
              </a:path>
              <a:path fill="lightenLess" w="21609" h="21600">
                <a:moveTo>
                  <a:pt x="0" y="0"/>
                </a:moveTo>
                <a:lnTo>
                  <a:pt x="21609" y="0"/>
                </a:lnTo>
                <a:lnTo>
                  <a:pt x="20209" y="1400"/>
                </a:lnTo>
                <a:lnTo>
                  <a:pt x="1400" y="1400"/>
                </a:lnTo>
                <a:close/>
              </a:path>
              <a:path fill="darken" w="21609" h="21600">
                <a:moveTo>
                  <a:pt x="21609" y="0"/>
                </a:moveTo>
                <a:lnTo>
                  <a:pt x="21609" y="21600"/>
                </a:lnTo>
                <a:lnTo>
                  <a:pt x="20209" y="20200"/>
                </a:lnTo>
                <a:lnTo>
                  <a:pt x="20209" y="1400"/>
                </a:lnTo>
                <a:close/>
              </a:path>
              <a:path fill="darkenLess" w="21609" h="21600">
                <a:moveTo>
                  <a:pt x="21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9" y="20200"/>
                </a:lnTo>
                <a:close/>
              </a:path>
              <a:path fill="lighten" w="21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9" h="21600">
                <a:moveTo>
                  <a:pt x="3798" y="3794"/>
                </a:moveTo>
                <a:lnTo>
                  <a:pt x="17811" y="10800"/>
                </a:lnTo>
                <a:lnTo>
                  <a:pt x="3798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Evaluatio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4" name="">
            <a:hlinkClick r:id="rId1" action="ppaction://hlinksldjump"/>
          </p:cNvPr>
          <p:cNvSpPr/>
          <p:nvPr/>
        </p:nvSpPr>
        <p:spPr>
          <a:xfrm>
            <a:off x="304920" y="5715000"/>
            <a:ext cx="761760" cy="83808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63">
                <a:moveTo>
                  <a:pt x="0" y="0"/>
                </a:moveTo>
                <a:lnTo>
                  <a:pt x="21600" y="0"/>
                </a:lnTo>
                <a:lnTo>
                  <a:pt x="21600" y="23763"/>
                </a:lnTo>
                <a:lnTo>
                  <a:pt x="0" y="23763"/>
                </a:lnTo>
                <a:close/>
              </a:path>
              <a:path fill="lightenLess" w="21600" h="237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3">
                <a:moveTo>
                  <a:pt x="21600" y="0"/>
                </a:moveTo>
                <a:lnTo>
                  <a:pt x="21600" y="23763"/>
                </a:lnTo>
                <a:lnTo>
                  <a:pt x="20200" y="22363"/>
                </a:lnTo>
                <a:lnTo>
                  <a:pt x="20200" y="1400"/>
                </a:lnTo>
                <a:close/>
              </a:path>
              <a:path fill="darkenLess" w="21600" h="23763">
                <a:moveTo>
                  <a:pt x="21600" y="23763"/>
                </a:moveTo>
                <a:lnTo>
                  <a:pt x="0" y="23763"/>
                </a:lnTo>
                <a:lnTo>
                  <a:pt x="1400" y="22363"/>
                </a:lnTo>
                <a:lnTo>
                  <a:pt x="20200" y="22363"/>
                </a:lnTo>
                <a:close/>
              </a:path>
              <a:path fill="lighten" w="21600" h="23763">
                <a:moveTo>
                  <a:pt x="0" y="237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3"/>
                </a:lnTo>
                <a:close/>
              </a:path>
              <a:path fill="darken" w="21600" h="23763">
                <a:moveTo>
                  <a:pt x="10800" y="4919"/>
                </a:moveTo>
                <a:lnTo>
                  <a:pt x="13376" y="7530"/>
                </a:lnTo>
                <a:lnTo>
                  <a:pt x="13376" y="5789"/>
                </a:lnTo>
                <a:lnTo>
                  <a:pt x="15152" y="5789"/>
                </a:lnTo>
                <a:lnTo>
                  <a:pt x="15152" y="9305"/>
                </a:lnTo>
                <a:lnTo>
                  <a:pt x="17763" y="11882"/>
                </a:lnTo>
                <a:lnTo>
                  <a:pt x="16109" y="11882"/>
                </a:lnTo>
                <a:lnTo>
                  <a:pt x="16109" y="19071"/>
                </a:lnTo>
                <a:lnTo>
                  <a:pt x="5491" y="19071"/>
                </a:lnTo>
                <a:lnTo>
                  <a:pt x="5491" y="11882"/>
                </a:lnTo>
                <a:lnTo>
                  <a:pt x="3837" y="11882"/>
                </a:lnTo>
                <a:close/>
              </a:path>
              <a:path fill="darkenLess" w="21600" h="23763">
                <a:moveTo>
                  <a:pt x="13376" y="7530"/>
                </a:moveTo>
                <a:lnTo>
                  <a:pt x="13376" y="5789"/>
                </a:lnTo>
                <a:lnTo>
                  <a:pt x="15152" y="5789"/>
                </a:lnTo>
                <a:lnTo>
                  <a:pt x="15152" y="9305"/>
                </a:lnTo>
                <a:close/>
              </a:path>
              <a:path fill="darkenLess" w="21600" h="23763">
                <a:moveTo>
                  <a:pt x="9877" y="15380"/>
                </a:moveTo>
                <a:lnTo>
                  <a:pt x="11723" y="15380"/>
                </a:lnTo>
                <a:lnTo>
                  <a:pt x="11723" y="19071"/>
                </a:lnTo>
                <a:lnTo>
                  <a:pt x="16109" y="19071"/>
                </a:lnTo>
                <a:lnTo>
                  <a:pt x="16109" y="11882"/>
                </a:lnTo>
                <a:lnTo>
                  <a:pt x="5491" y="11882"/>
                </a:lnTo>
                <a:lnTo>
                  <a:pt x="5491" y="19071"/>
                </a:lnTo>
                <a:lnTo>
                  <a:pt x="9877" y="19071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7696080" y="685800"/>
            <a:ext cx="838440" cy="838080"/>
          </a:xfrm>
          <a:custGeom>
            <a:avLst/>
            <a:gdLst>
              <a:gd name="textAreaLeft" fmla="*/ 54000 w 838440"/>
              <a:gd name="textAreaRight" fmla="*/ 784440 w 838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9" h="21600">
                <a:moveTo>
                  <a:pt x="0" y="0"/>
                </a:moveTo>
                <a:lnTo>
                  <a:pt x="21609" y="0"/>
                </a:lnTo>
                <a:lnTo>
                  <a:pt x="21609" y="21600"/>
                </a:lnTo>
                <a:lnTo>
                  <a:pt x="0" y="21600"/>
                </a:lnTo>
                <a:close/>
              </a:path>
              <a:path fill="lightenLess" w="21609" h="21600">
                <a:moveTo>
                  <a:pt x="0" y="0"/>
                </a:moveTo>
                <a:lnTo>
                  <a:pt x="21609" y="0"/>
                </a:lnTo>
                <a:lnTo>
                  <a:pt x="20209" y="1400"/>
                </a:lnTo>
                <a:lnTo>
                  <a:pt x="1400" y="1400"/>
                </a:lnTo>
                <a:close/>
              </a:path>
              <a:path fill="darken" w="21609" h="21600">
                <a:moveTo>
                  <a:pt x="21609" y="0"/>
                </a:moveTo>
                <a:lnTo>
                  <a:pt x="21609" y="21600"/>
                </a:lnTo>
                <a:lnTo>
                  <a:pt x="20209" y="20200"/>
                </a:lnTo>
                <a:lnTo>
                  <a:pt x="20209" y="1400"/>
                </a:lnTo>
                <a:close/>
              </a:path>
              <a:path fill="darkenLess" w="21609" h="21600">
                <a:moveTo>
                  <a:pt x="21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9" y="20200"/>
                </a:lnTo>
                <a:close/>
              </a:path>
              <a:path fill="lighten" w="21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9" h="21600">
                <a:moveTo>
                  <a:pt x="3798" y="3794"/>
                </a:moveTo>
                <a:lnTo>
                  <a:pt x="17811" y="10800"/>
                </a:lnTo>
                <a:lnTo>
                  <a:pt x="3798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8" name="">
            <a:hlinkClick r:id="rId1" action="ppaction://hlinksldjump"/>
          </p:cNvPr>
          <p:cNvSpPr/>
          <p:nvPr/>
        </p:nvSpPr>
        <p:spPr>
          <a:xfrm>
            <a:off x="228600" y="571500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10800" y="4913"/>
                </a:moveTo>
                <a:lnTo>
                  <a:pt x="13376" y="7524"/>
                </a:lnTo>
                <a:lnTo>
                  <a:pt x="13376" y="5783"/>
                </a:lnTo>
                <a:lnTo>
                  <a:pt x="15152" y="5783"/>
                </a:lnTo>
                <a:lnTo>
                  <a:pt x="15152" y="9300"/>
                </a:lnTo>
                <a:lnTo>
                  <a:pt x="17763" y="11876"/>
                </a:lnTo>
                <a:lnTo>
                  <a:pt x="16109" y="11876"/>
                </a:lnTo>
                <a:lnTo>
                  <a:pt x="16109" y="19065"/>
                </a:lnTo>
                <a:lnTo>
                  <a:pt x="5491" y="19065"/>
                </a:lnTo>
                <a:lnTo>
                  <a:pt x="5491" y="11876"/>
                </a:lnTo>
                <a:lnTo>
                  <a:pt x="3837" y="11876"/>
                </a:lnTo>
                <a:close/>
              </a:path>
              <a:path fill="darkenLess" w="21600" h="23752">
                <a:moveTo>
                  <a:pt x="13376" y="7524"/>
                </a:moveTo>
                <a:lnTo>
                  <a:pt x="13376" y="5783"/>
                </a:lnTo>
                <a:lnTo>
                  <a:pt x="15152" y="5783"/>
                </a:lnTo>
                <a:lnTo>
                  <a:pt x="15152" y="9300"/>
                </a:lnTo>
                <a:close/>
              </a:path>
              <a:path fill="darkenLess" w="21600" h="23752">
                <a:moveTo>
                  <a:pt x="9877" y="15375"/>
                </a:moveTo>
                <a:lnTo>
                  <a:pt x="11723" y="15375"/>
                </a:lnTo>
                <a:lnTo>
                  <a:pt x="11723" y="19065"/>
                </a:lnTo>
                <a:lnTo>
                  <a:pt x="16109" y="19065"/>
                </a:lnTo>
                <a:lnTo>
                  <a:pt x="16109" y="11876"/>
                </a:lnTo>
                <a:lnTo>
                  <a:pt x="5491" y="11876"/>
                </a:lnTo>
                <a:lnTo>
                  <a:pt x="5491" y="19065"/>
                </a:lnTo>
                <a:lnTo>
                  <a:pt x="9877" y="19065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21:17:47Z</dcterms:created>
  <dc:creator>Villa Julie</dc:creator>
  <dc:description/>
  <dc:language>en-US</dc:language>
  <cp:lastModifiedBy>BCPS</cp:lastModifiedBy>
  <dcterms:modified xsi:type="dcterms:W3CDTF">2010-04-14T18:51:38Z</dcterms:modified>
  <cp:revision>7</cp:revision>
  <dc:subject/>
  <dc:title>Plants</dc:title>
</cp:coreProperties>
</file>